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0916"/>
        <c:axId val="87310449"/>
      </c:barChart>
      <c:catAx>
        <c:axId val="2200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10449"/>
        <c:crosses val="autoZero"/>
        <c:auto val="1"/>
        <c:lblAlgn val="ctr"/>
        <c:lblOffset val="100"/>
        <c:noMultiLvlLbl val="0"/>
      </c:catAx>
      <c:valAx>
        <c:axId val="87310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0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9CC-AFC3-403E-BC43-0FDF2475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736-6592-447B-B91D-10B1CD0B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E50-D5A0-4BF9-AE24-918F841D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6E9-0B5A-4CBE-B91A-FF779481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DB2-6DA7-4F25-8754-B2E4F6C9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FC2-03C8-43CF-B1E0-E566FF72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0C2-1E60-4A4C-8134-16BDECBE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838-7AF3-4720-896F-4FA954CF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016-1B78-4026-A2BD-10229DFD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E3F-34CD-4143-951B-DC0B3B60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CF1-D414-41EC-BA00-5E9C3B2D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CC9-652F-42FD-A9E9-3183FE88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D30A7-A64B-4716-8FC0-D919942D75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