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png" ContentType="image/png"/>
  <Override PartName="/ppt/media/image3.png" ContentType="image/png"/>
  <Override PartName="/ppt/media/image4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2B980-F998-49D0-97CF-75565EBF04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853FD-DC6E-4D8D-B198-A2EBC5020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67D1-8C29-4070-A85B-A188BBD661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FFA75-302E-464B-8EE0-28130B90894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03CD2-8607-41FB-8B38-1E87A164D8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D5906-7C4F-4696-9537-8A8F9A5B8A2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30246F-F2D5-405F-9721-C4EBE677FF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33B8A-22F9-49E8-BE7D-21A35C99EE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98770-C8F5-4975-A254-C32DD9881A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4AECED-C074-4533-A4A4-1A7DA5328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51EF0-990C-4A8E-9E87-424D8A04EB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65D2BA-4702-476B-97CA-FF76BD5C0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89EDF0-E221-4FF7-B844-3D00DBDE32AB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1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wmf"/><Relationship Id="rId3" Type="http://schemas.openxmlformats.org/officeDocument/2006/relationships/image" Target="../media/image4.wmf"/><Relationship Id="rId4" Type="http://schemas.openxmlformats.org/officeDocument/2006/relationships/image" Target="../media/image4.wmf"/><Relationship Id="rId5" Type="http://schemas.openxmlformats.org/officeDocument/2006/relationships/image" Target="../media/image4.wmf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wmf"/><Relationship Id="rId2" Type="http://schemas.openxmlformats.org/officeDocument/2006/relationships/image" Target="../media/image4.wmf"/><Relationship Id="rId3" Type="http://schemas.openxmlformats.org/officeDocument/2006/relationships/image" Target="../media/image1.wmf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Source pictures for document ”Thoughts about increasing spam annoyance” by &lt;jari.aalto@cante-ne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: This material may be distributed only subject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he terms and conditions set forth in GNU General Publi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License v2 or later; or, at your option, distributed under th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terms of GNU Free Documentation License version 1.2 or la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(GNU FDL)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address harvesting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7162920" y="3048120"/>
            <a:ext cx="1828800" cy="16002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4114800" y="4648320"/>
            <a:ext cx="2666880" cy="914400"/>
          </a:xfrm>
          <a:prstGeom prst="wedgeEllipseCallout">
            <a:avLst>
              <a:gd name="adj1" fmla="val -77976"/>
              <a:gd name="adj2" fmla="val -14392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program collecting items from various sourc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533520" y="4419720"/>
            <a:ext cx="3429000" cy="114300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addresses are collected 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later used as a false SMT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 FROM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dentification  to send Unsolicited 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forged addresses in mail message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 rot="8031000">
            <a:off x="6249600" y="4417920"/>
            <a:ext cx="1274760" cy="820440"/>
          </a:xfrm>
          <a:custGeom>
            <a:avLst/>
            <a:gdLst>
              <a:gd name="textAreaLeft" fmla="*/ 199080 w 1274760"/>
              <a:gd name="textAreaRight" fmla="*/ 900720 w 1274760"/>
              <a:gd name="textAreaTop" fmla="*/ 156240 h 820440"/>
              <a:gd name="textAreaBottom" fmla="*/ 664200 h 82044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9" name="j0235958" descr=""/>
          <p:cNvPicPr/>
          <p:nvPr/>
        </p:nvPicPr>
        <p:blipFill>
          <a:blip r:embed="rId1"/>
          <a:stretch/>
        </p:blipFill>
        <p:spPr>
          <a:xfrm>
            <a:off x="31240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50" name=""/>
          <p:cNvSpPr/>
          <p:nvPr/>
        </p:nvSpPr>
        <p:spPr>
          <a:xfrm>
            <a:off x="7238880" y="1828800"/>
            <a:ext cx="1752840" cy="14479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ing lis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4114800" y="4038480"/>
            <a:ext cx="838080" cy="762120"/>
          </a:xfrm>
          <a:custGeom>
            <a:avLst/>
            <a:gdLst>
              <a:gd name="textAreaLeft" fmla="*/ 146520 w 838080"/>
              <a:gd name="textAreaRight" fmla="*/ 607680 w 838080"/>
              <a:gd name="textAreaTop" fmla="*/ 101880 h 762120"/>
              <a:gd name="textAreaBottom" fmla="*/ 660240 h 76212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7162920" y="3124080"/>
            <a:ext cx="1752480" cy="152424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Usene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newsgroup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3" name="www-page-email2" descr=""/>
          <p:cNvPicPr/>
          <p:nvPr/>
        </p:nvPicPr>
        <p:blipFill>
          <a:blip r:embed="rId2"/>
          <a:stretch/>
        </p:blipFill>
        <p:spPr>
          <a:xfrm>
            <a:off x="609480" y="838080"/>
            <a:ext cx="6183360" cy="3075120"/>
          </a:xfrm>
          <a:prstGeom prst="rect">
            <a:avLst/>
          </a:prstGeom>
          <a:ln w="0">
            <a:noFill/>
          </a:ln>
        </p:spPr>
      </p:pic>
      <p:sp>
        <p:nvSpPr>
          <p:cNvPr id="54" name=""/>
          <p:cNvSpPr/>
          <p:nvPr/>
        </p:nvSpPr>
        <p:spPr>
          <a:xfrm>
            <a:off x="3962520" y="6095880"/>
            <a:ext cx="175248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addr@example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4341960" y="5791320"/>
            <a:ext cx="1361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aved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648320" y="3809880"/>
            <a:ext cx="108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WWW p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3429000" y="3122640"/>
            <a:ext cx="304920" cy="295200"/>
          </a:xfrm>
          <a:prstGeom prst="rect">
            <a:avLst/>
          </a:prstGeom>
          <a:ln w="0">
            <a:noFill/>
          </a:ln>
        </p:spPr>
      </p:pic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based authentic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3733920" y="3124080"/>
            <a:ext cx="1447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end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3124080" y="1066680"/>
            <a:ext cx="2819520" cy="337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 sends his first mail to </a:t>
            </a:r>
            <a:r>
              <a:rPr b="1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 flipH="1">
            <a:off x="3429000" y="350532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2819520" y="2057400"/>
            <a:ext cx="1523880" cy="2286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6705720" y="12952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447920" y="1295280"/>
            <a:ext cx="1523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3429000" y="1600200"/>
            <a:ext cx="2666880" cy="307800"/>
          </a:xfrm>
          <a:custGeom>
            <a:avLst/>
            <a:gdLst/>
            <a:ahLst/>
            <a:rect l="l" t="t" r="r" b="b"/>
            <a:pathLst>
              <a:path w="1546" h="194">
                <a:moveTo>
                  <a:pt x="0" y="194"/>
                </a:moveTo>
                <a:cubicBezTo>
                  <a:pt x="129" y="162"/>
                  <a:pt x="515" y="8"/>
                  <a:pt x="773" y="4"/>
                </a:cubicBezTo>
                <a:cubicBezTo>
                  <a:pt x="1031" y="0"/>
                  <a:pt x="1385" y="137"/>
                  <a:pt x="1546" y="172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746800" y="1981080"/>
            <a:ext cx="17672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foo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3429000" y="449568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343400" y="419112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spond to challen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248520" y="3911760"/>
            <a:ext cx="1523880" cy="5331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251760" y="3886200"/>
            <a:ext cx="1789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ccept challeng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Add 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bar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to</a:t>
            </a:r>
            <a:r>
              <a:rPr b="0" i="1" lang="fi-FI" sz="1600" spc="-1" strike="noStrike">
                <a:solidFill>
                  <a:srgbClr val="808080"/>
                </a:solidFill>
                <a:latin typeface="Times New Roman"/>
              </a:rPr>
              <a:t> </a:t>
            </a: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whitelis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3429000" y="5486400"/>
            <a:ext cx="266688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429000" y="4876920"/>
            <a:ext cx="266688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 and Foo exchange messag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3333cc"/>
                </a:solidFill>
                <a:latin typeface="Times New Roman"/>
              </a:rPr>
              <a:t>(Passwords/Catchpas no longer needed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31600" y="1828800"/>
            <a:ext cx="326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A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48520" y="4483080"/>
            <a:ext cx="167616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bar@from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2819520" y="2286000"/>
            <a:ext cx="1371600" cy="457200"/>
          </a:xfrm>
          <a:prstGeom prst="flowChartInternalStorag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o@to.c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7924680" y="3987720"/>
            <a:ext cx="328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C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4876200" y="2971800"/>
            <a:ext cx="330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ff0000"/>
                </a:solidFill>
                <a:latin typeface="Comic Sans MS"/>
              </a:rPr>
              <a:t>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304920" y="3809880"/>
            <a:ext cx="2514600" cy="1371600"/>
          </a:xfrm>
          <a:prstGeom prst="wedgeEllipseCallout">
            <a:avLst>
              <a:gd name="adj1" fmla="val 59087"/>
              <a:gd name="adj2" fmla="val -71643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There are serious problems in the C-R system at points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A, B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C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1" name="j0235958" descr=""/>
          <p:cNvPicPr/>
          <p:nvPr/>
        </p:nvPicPr>
        <p:blipFill>
          <a:blip r:embed="rId2"/>
          <a:stretch/>
        </p:blipFill>
        <p:spPr>
          <a:xfrm>
            <a:off x="1447920" y="1752480"/>
            <a:ext cx="1143000" cy="916200"/>
          </a:xfrm>
          <a:prstGeom prst="rect">
            <a:avLst/>
          </a:prstGeom>
          <a:ln w="0">
            <a:noFill/>
          </a:ln>
        </p:spPr>
      </p:pic>
      <p:pic>
        <p:nvPicPr>
          <p:cNvPr id="82" name="j0235958" descr=""/>
          <p:cNvPicPr/>
          <p:nvPr/>
        </p:nvPicPr>
        <p:blipFill>
          <a:blip r:embed="rId3"/>
          <a:stretch/>
        </p:blipFill>
        <p:spPr>
          <a:xfrm>
            <a:off x="6781680" y="1676520"/>
            <a:ext cx="1143000" cy="915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viruses/spam should not be treate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3352680" y="1371600"/>
            <a:ext cx="2819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mail sent in the name of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Bar </a:t>
            </a:r>
            <a:r>
              <a:rPr b="0" lang="fi-FI" sz="1200" spc="-1" strike="noStrike">
                <a:solidFill>
                  <a:srgbClr val="3333cc"/>
                </a:solidFill>
                <a:latin typeface="Times New Roman"/>
              </a:rPr>
              <a:t>(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forged address)</a:t>
            </a: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 to </a:t>
            </a:r>
            <a:r>
              <a:rPr b="0" lang="fi-FI" sz="16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352320" y="449568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705720" y="121932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2971800" y="1752480"/>
            <a:ext cx="185760" cy="38862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276720" y="2133720"/>
            <a:ext cx="15238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MAIL FROM: &lt;bar@from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400800" y="1714680"/>
            <a:ext cx="185760" cy="392400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6172200" y="3886200"/>
            <a:ext cx="2590920" cy="16765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672160" y="3971880"/>
            <a:ext cx="33976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1) Message is rejected and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returned in fu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2) Or notification is sent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”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Your message contained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or spam and it was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not delivered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 flipV="1">
            <a:off x="152280" y="3352680"/>
            <a:ext cx="2819520" cy="1371600"/>
          </a:xfrm>
          <a:prstGeom prst="wedgeEllipseCallout">
            <a:avLst>
              <a:gd name="adj1" fmla="val 57768"/>
              <a:gd name="adj2" fmla="val -31250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t this person never sent that message. His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mailbox is being filled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with false notificatio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3" name="j0223568" descr=""/>
          <p:cNvPicPr/>
          <p:nvPr/>
        </p:nvPicPr>
        <p:blipFill>
          <a:blip r:embed="rId1"/>
          <a:stretch/>
        </p:blipFill>
        <p:spPr>
          <a:xfrm>
            <a:off x="1600200" y="15238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94" name="j0223568" descr=""/>
          <p:cNvPicPr/>
          <p:nvPr/>
        </p:nvPicPr>
        <p:blipFill>
          <a:blip r:embed="rId2"/>
          <a:stretch/>
        </p:blipFill>
        <p:spPr>
          <a:xfrm>
            <a:off x="6781680" y="15238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95" name=""/>
          <p:cNvSpPr/>
          <p:nvPr/>
        </p:nvSpPr>
        <p:spPr>
          <a:xfrm>
            <a:off x="3429000" y="3048120"/>
            <a:ext cx="3733920" cy="838080"/>
          </a:xfrm>
          <a:prstGeom prst="cloudCallout">
            <a:avLst>
              <a:gd name="adj1" fmla="val 46939"/>
              <a:gd name="adj2" fmla="val -11571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canner found that ncoming message is spam or carrying a worm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1295280" y="4648320"/>
            <a:ext cx="1371600" cy="990360"/>
          </a:xfrm>
          <a:prstGeom prst="can">
            <a:avLst>
              <a:gd name="adj" fmla="val 25000"/>
            </a:avLst>
          </a:prstGeom>
          <a:solidFill>
            <a:srgbClr val="ccecff"/>
          </a:solidFill>
          <a:ln w="9360">
            <a:solidFill>
              <a:srgbClr val="00cc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ar@from.com’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box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H="1">
            <a:off x="3352320" y="2133720"/>
            <a:ext cx="2667240" cy="0"/>
          </a:xfrm>
          <a:prstGeom prst="line">
            <a:avLst/>
          </a:prstGeom>
          <a:ln w="1584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key" descr=""/>
          <p:cNvPicPr/>
          <p:nvPr/>
        </p:nvPicPr>
        <p:blipFill>
          <a:blip r:embed="rId1">
            <a:lum contrast="-12000"/>
          </a:blip>
          <a:stretch/>
        </p:blipFill>
        <p:spPr>
          <a:xfrm>
            <a:off x="1905120" y="1295280"/>
            <a:ext cx="685800" cy="66384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371600" y="2438280"/>
            <a:ext cx="3429000" cy="175284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2514600"/>
            <a:ext cx="6019920" cy="3124080"/>
          </a:xfrm>
          <a:prstGeom prst="ellipse">
            <a:avLst/>
          </a:prstGeom>
          <a:solidFill>
            <a:srgbClr val="ffff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Challenge-Response system causing Joe-Job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400800" y="426708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also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1905120" y="1828800"/>
            <a:ext cx="24382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600" spc="-1" strike="noStrike">
                <a:solidFill>
                  <a:srgbClr val="000000"/>
                </a:solidFill>
                <a:latin typeface="Times New Roman"/>
              </a:rPr>
              <a:t>A challenge is sent to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3124080" y="373392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 flipV="1">
            <a:off x="3809880" y="3581280"/>
            <a:ext cx="609840" cy="4572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7" name="j0223568" descr=""/>
          <p:cNvPicPr/>
          <p:nvPr/>
        </p:nvPicPr>
        <p:blipFill>
          <a:blip r:embed="rId2"/>
          <a:stretch/>
        </p:blipFill>
        <p:spPr>
          <a:xfrm>
            <a:off x="4267080" y="20574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08" name="j0223568" descr=""/>
          <p:cNvPicPr/>
          <p:nvPr/>
        </p:nvPicPr>
        <p:blipFill>
          <a:blip r:embed="rId3"/>
          <a:stretch/>
        </p:blipFill>
        <p:spPr>
          <a:xfrm>
            <a:off x="914400" y="20574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09" name=""/>
          <p:cNvSpPr/>
          <p:nvPr/>
        </p:nvSpPr>
        <p:spPr>
          <a:xfrm flipH="1">
            <a:off x="1980720" y="2558880"/>
            <a:ext cx="22860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09880" y="990720"/>
            <a:ext cx="3505320" cy="990360"/>
          </a:xfrm>
          <a:prstGeom prst="cloudCallout">
            <a:avLst>
              <a:gd name="adj1" fmla="val -30115"/>
              <a:gd name="adj2" fmla="val 7483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Bar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’s C-R system falsely concludes  that</a:t>
            </a: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is the send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1" name="j0223568" descr=""/>
          <p:cNvPicPr/>
          <p:nvPr/>
        </p:nvPicPr>
        <p:blipFill>
          <a:blip r:embed="rId4"/>
          <a:stretch/>
        </p:blipFill>
        <p:spPr>
          <a:xfrm>
            <a:off x="2362320" y="48769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2" name="j0223568" descr=""/>
          <p:cNvPicPr/>
          <p:nvPr/>
        </p:nvPicPr>
        <p:blipFill>
          <a:blip r:embed="rId5"/>
          <a:stretch/>
        </p:blipFill>
        <p:spPr>
          <a:xfrm>
            <a:off x="2666880" y="502920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13" name="j0223568" descr=""/>
          <p:cNvPicPr/>
          <p:nvPr/>
        </p:nvPicPr>
        <p:blipFill>
          <a:blip r:embed="rId6"/>
          <a:stretch/>
        </p:blipFill>
        <p:spPr>
          <a:xfrm>
            <a:off x="2819520" y="5181480"/>
            <a:ext cx="1069920" cy="1524240"/>
          </a:xfrm>
          <a:prstGeom prst="rect">
            <a:avLst/>
          </a:prstGeom>
          <a:ln w="0">
            <a:noFill/>
          </a:ln>
        </p:spPr>
      </p:pic>
      <p:sp>
        <p:nvSpPr>
          <p:cNvPr id="114" name=""/>
          <p:cNvSpPr/>
          <p:nvPr/>
        </p:nvSpPr>
        <p:spPr>
          <a:xfrm rot="14076600">
            <a:off x="1333440" y="3467160"/>
            <a:ext cx="1447920" cy="1371600"/>
          </a:xfrm>
          <a:custGeom>
            <a:avLst/>
            <a:gdLst>
              <a:gd name="textAreaLeft" fmla="*/ 226080 w 1447920"/>
              <a:gd name="textAreaRight" fmla="*/ 1267200 w 144792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380880" y="4267080"/>
            <a:ext cx="198144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382320" y="4343400"/>
            <a:ext cx="2076480" cy="763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808080"/>
                </a:solidFill>
                <a:latin typeface="Times New Roman"/>
              </a:rPr>
              <a:t>foo@to.com</a:t>
            </a: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  ”Joe-Job”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ultitude of challeng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ent to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wrong addres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7120" y="2209680"/>
            <a:ext cx="1295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3809880" y="5714280"/>
            <a:ext cx="2667240" cy="609480"/>
          </a:xfrm>
          <a:prstGeom prst="wedgeEllipseCallout">
            <a:avLst>
              <a:gd name="adj1" fmla="val -64111"/>
              <a:gd name="adj2" fmla="val -59115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ore users ru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-R system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152280" y="28195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320040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3124080" y="4114800"/>
            <a:ext cx="2667240" cy="7621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’s messages which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5486400" y="2057400"/>
            <a:ext cx="320040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from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80808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rot="8031000">
            <a:off x="3881880" y="4898160"/>
            <a:ext cx="665280" cy="533520"/>
          </a:xfrm>
          <a:custGeom>
            <a:avLst/>
            <a:gdLst>
              <a:gd name="textAreaLeft" fmla="*/ 103680 w 665280"/>
              <a:gd name="textAreaRight" fmla="*/ 470160 w 66528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2060280" y="26668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>
            <a:off x="3889080" y="3352680"/>
            <a:ext cx="4276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4495680" y="2514600"/>
            <a:ext cx="4343400" cy="3340080"/>
          </a:xfrm>
          <a:custGeom>
            <a:avLst/>
            <a:gdLst/>
            <a:ahLst/>
            <a:rect l="l" t="t" r="r" b="b"/>
            <a:pathLst>
              <a:path w="2736" h="2104">
                <a:moveTo>
                  <a:pt x="0" y="1392"/>
                </a:moveTo>
                <a:cubicBezTo>
                  <a:pt x="1032" y="1748"/>
                  <a:pt x="2064" y="2104"/>
                  <a:pt x="2400" y="1872"/>
                </a:cubicBezTo>
                <a:cubicBezTo>
                  <a:pt x="2736" y="1640"/>
                  <a:pt x="2376" y="820"/>
                  <a:pt x="2016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"/>
          <p:cNvSpPr/>
          <p:nvPr/>
        </p:nvSpPr>
        <p:spPr>
          <a:xfrm>
            <a:off x="1784520" y="578016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111.2.3.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SPF helps to prevent forgerie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419720" y="3429000"/>
            <a:ext cx="2101680" cy="762120"/>
          </a:xfrm>
          <a:prstGeom prst="rect">
            <a:avLst/>
          </a:prstGeom>
          <a:gradFill rotWithShape="0">
            <a:gsLst>
              <a:gs pos="0">
                <a:srgbClr val="d1f5ec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resul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”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No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, mail di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not come through our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Exchanger (MX)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86200" y="1828800"/>
            <a:ext cx="16002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consult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DNS TXT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ecor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H="1" flipV="1">
            <a:off x="1479600" y="4408200"/>
            <a:ext cx="457200" cy="15238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2" name="j0223568" descr=""/>
          <p:cNvPicPr/>
          <p:nvPr/>
        </p:nvPicPr>
        <p:blipFill>
          <a:blip r:embed="rId1"/>
          <a:stretch/>
        </p:blipFill>
        <p:spPr>
          <a:xfrm>
            <a:off x="5181480" y="1981080"/>
            <a:ext cx="1069920" cy="1524240"/>
          </a:xfrm>
          <a:prstGeom prst="rect">
            <a:avLst/>
          </a:prstGeom>
          <a:ln w="0">
            <a:noFill/>
          </a:ln>
        </p:spPr>
      </p:pic>
      <p:pic>
        <p:nvPicPr>
          <p:cNvPr id="133" name="j0223568" descr=""/>
          <p:cNvPicPr/>
          <p:nvPr/>
        </p:nvPicPr>
        <p:blipFill>
          <a:blip r:embed="rId2"/>
          <a:stretch/>
        </p:blipFill>
        <p:spPr>
          <a:xfrm>
            <a:off x="1631880" y="204624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85800" y="1066680"/>
            <a:ext cx="3733920" cy="914400"/>
          </a:xfrm>
          <a:prstGeom prst="cloudCallout">
            <a:avLst>
              <a:gd name="adj1" fmla="val -38902"/>
              <a:gd name="adj2" fmla="val 133162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s this message coming from IP </a:t>
            </a: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111.2.3.4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uthorized to send mail?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870120" y="4789440"/>
            <a:ext cx="1981080" cy="99072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213520" y="5322960"/>
            <a:ext cx="2971800" cy="838080"/>
          </a:xfrm>
          <a:prstGeom prst="wedgeEllipseCallout">
            <a:avLst>
              <a:gd name="adj1" fmla="val -103421"/>
              <a:gd name="adj2" fmla="val -41481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Host located at some ISP’s address space 111.2.*.*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870120" y="280836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4038480" y="2819520"/>
            <a:ext cx="13716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FROM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870120" y="3570120"/>
            <a:ext cx="2666880" cy="6858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550 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2743200" y="3124080"/>
            <a:ext cx="232236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prstDash val="dashDot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023840" y="433224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2744640" y="320040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3352680" y="4724280"/>
            <a:ext cx="438804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MTP 5xx reject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: message is returned to sender due t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result: ”you did not use </a:t>
            </a:r>
            <a:r>
              <a:rPr b="1" lang="fi-FI" sz="1400" spc="-1" strike="noStrike">
                <a:solidFill>
                  <a:srgbClr val="ccccff"/>
                </a:solidFill>
                <a:latin typeface="Times New Roman"/>
              </a:rPr>
              <a:t>from.com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to send mail.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233880" y="49417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45" name="j0235958" descr=""/>
          <p:cNvPicPr/>
          <p:nvPr/>
        </p:nvPicPr>
        <p:blipFill>
          <a:blip r:embed="rId3"/>
          <a:stretch/>
        </p:blipFill>
        <p:spPr>
          <a:xfrm>
            <a:off x="358128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 rot="2643000">
            <a:off x="1807920" y="4898520"/>
            <a:ext cx="1974600" cy="439920"/>
          </a:xfrm>
          <a:custGeom>
            <a:avLst/>
            <a:gdLst>
              <a:gd name="textAreaLeft" fmla="*/ 308520 w 1974600"/>
              <a:gd name="textAreaRight" fmla="*/ 1728000 w 1974600"/>
              <a:gd name="textAreaTop" fmla="*/ 109800 h 439920"/>
              <a:gd name="textAreaBottom" fmla="*/ 330120 h 43992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943560" y="4789440"/>
            <a:ext cx="1654560" cy="97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mer send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essage pret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to come from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600" spc="-1" strike="noStrike">
                <a:solidFill>
                  <a:srgbClr val="66ccff"/>
                </a:solidFill>
                <a:latin typeface="Times New Roman"/>
              </a:rPr>
              <a:t>foo@from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1174680" y="410364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 rot="10800000">
            <a:off x="2819520" y="2438280"/>
            <a:ext cx="2286000" cy="317520"/>
          </a:xfrm>
          <a:custGeom>
            <a:avLst/>
            <a:gdLst/>
            <a:ahLst/>
            <a:rect l="l" t="t" r="r" b="b"/>
            <a:pathLst>
              <a:path w="1248" h="200">
                <a:moveTo>
                  <a:pt x="1248" y="48"/>
                </a:moveTo>
                <a:cubicBezTo>
                  <a:pt x="1040" y="124"/>
                  <a:pt x="832" y="200"/>
                  <a:pt x="624" y="192"/>
                </a:cubicBezTo>
                <a:cubicBezTo>
                  <a:pt x="416" y="184"/>
                  <a:pt x="80" y="32"/>
                  <a:pt x="0" y="0"/>
                </a:cubicBezTo>
              </a:path>
            </a:pathLst>
          </a:custGeom>
          <a:noFill/>
          <a:ln w="255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4802040" y="236232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5410080" y="1523880"/>
            <a:ext cx="2819520" cy="38124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421960" y="1600200"/>
            <a:ext cx="3106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TXT ”v=spf1 ip4:64.126.106.0/24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5402160" y="1219320"/>
            <a:ext cx="2766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DNS configuration includes record: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"/>
          <p:cNvSpPr/>
          <p:nvPr/>
        </p:nvSpPr>
        <p:spPr>
          <a:xfrm>
            <a:off x="5029200" y="3276720"/>
            <a:ext cx="533520" cy="6094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1828800" y="1143000"/>
            <a:ext cx="3809880" cy="1752480"/>
          </a:xfrm>
          <a:prstGeom prst="rect">
            <a:avLst/>
          </a:prstGeom>
          <a:solidFill>
            <a:srgbClr val="ccecff">
              <a:alpha val="5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04920" y="3048120"/>
            <a:ext cx="3047760" cy="220968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o.com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009999"/>
                </a:solidFill>
                <a:latin typeface="Times New Roman"/>
              </a:rPr>
              <a:t>&lt;foo@example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to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380880" y="5791320"/>
            <a:ext cx="2286000" cy="76176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IP x.x.x.x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How MTA level UBE prevention work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791320" y="762120"/>
            <a:ext cx="2209680" cy="10065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Is this mail coming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correct location (SPF)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- Is this IP in block lists?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Has this email ”DATA”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seen before as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H="1" flipV="1">
            <a:off x="1219320" y="5410080"/>
            <a:ext cx="380880" cy="5335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1" name="j0223568" descr=""/>
          <p:cNvPicPr/>
          <p:nvPr/>
        </p:nvPicPr>
        <p:blipFill>
          <a:blip r:embed="rId1"/>
          <a:stretch/>
        </p:blipFill>
        <p:spPr>
          <a:xfrm>
            <a:off x="7315200" y="1219320"/>
            <a:ext cx="1069920" cy="1523880"/>
          </a:xfrm>
          <a:prstGeom prst="rect">
            <a:avLst/>
          </a:prstGeom>
          <a:ln w="0">
            <a:noFill/>
          </a:ln>
        </p:spPr>
      </p:pic>
      <p:pic>
        <p:nvPicPr>
          <p:cNvPr id="162" name="j0223568" descr=""/>
          <p:cNvPicPr/>
          <p:nvPr/>
        </p:nvPicPr>
        <p:blipFill>
          <a:blip r:embed="rId2"/>
          <a:stretch/>
        </p:blipFill>
        <p:spPr>
          <a:xfrm>
            <a:off x="228600" y="121932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63" name=""/>
          <p:cNvSpPr/>
          <p:nvPr/>
        </p:nvSpPr>
        <p:spPr>
          <a:xfrm>
            <a:off x="6934320" y="2819520"/>
            <a:ext cx="1981080" cy="175248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47320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1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43228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3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5335560" y="15238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4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7" name="j0235958" descr=""/>
          <p:cNvPicPr/>
          <p:nvPr/>
        </p:nvPicPr>
        <p:blipFill>
          <a:blip r:embed="rId3"/>
          <a:stretch/>
        </p:blipFill>
        <p:spPr>
          <a:xfrm>
            <a:off x="213372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168" name=""/>
          <p:cNvSpPr/>
          <p:nvPr/>
        </p:nvSpPr>
        <p:spPr>
          <a:xfrm rot="10800000">
            <a:off x="2666880" y="1752480"/>
            <a:ext cx="1974960" cy="820800"/>
          </a:xfrm>
          <a:custGeom>
            <a:avLst/>
            <a:gdLst>
              <a:gd name="textAreaLeft" fmla="*/ 308520 w 1974960"/>
              <a:gd name="textAreaRight" fmla="*/ 1728360 w 1974960"/>
              <a:gd name="textAreaTop" fmla="*/ 205200 h 820800"/>
              <a:gd name="textAreaBottom" fmla="*/ 61560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5c735c"/>
              </a:gs>
              <a:gs pos="100000">
                <a:srgbClr val="ccffc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7007400" y="2895480"/>
            <a:ext cx="1966680" cy="15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PF che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P block lists (DNSBL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Known bad domain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buClr>
                <a:srgbClr val="0000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Razor2, Pyzor, DCC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email spam collection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check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400" spc="-1" strike="noStrike">
                <a:solidFill>
                  <a:srgbClr val="3333cc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447920" y="4952880"/>
            <a:ext cx="1600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400" spc="-1" strike="noStrike">
                <a:solidFill>
                  <a:srgbClr val="808080"/>
                </a:solidFill>
                <a:latin typeface="Times New Roman"/>
              </a:rPr>
              <a:t>SMTP  connec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762120" y="19051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72" name="j0223568" descr=""/>
          <p:cNvPicPr/>
          <p:nvPr/>
        </p:nvPicPr>
        <p:blipFill>
          <a:blip r:embed="rId4"/>
          <a:stretch/>
        </p:blipFill>
        <p:spPr>
          <a:xfrm>
            <a:off x="7467480" y="1371600"/>
            <a:ext cx="1069920" cy="152388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2057400" y="914400"/>
            <a:ext cx="335268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Access control lists (ACL) or Content filter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19810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28954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38098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724280" y="1368360"/>
            <a:ext cx="457200" cy="0"/>
          </a:xfrm>
          <a:prstGeom prst="line">
            <a:avLst/>
          </a:prstGeom>
          <a:ln w="3168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3421080" y="12304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2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 flipH="1">
            <a:off x="5028840" y="1447920"/>
            <a:ext cx="228600" cy="12189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906200" y="190512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000" spc="-1" strike="noStrike">
                <a:solidFill>
                  <a:srgbClr val="000000"/>
                </a:solidFill>
                <a:latin typeface="Arial"/>
              </a:rPr>
              <a:t>?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5334120" y="1523880"/>
            <a:ext cx="228600" cy="533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133720" y="2362320"/>
            <a:ext cx="1676160" cy="380880"/>
          </a:xfrm>
          <a:prstGeom prst="noSmoking">
            <a:avLst>
              <a:gd name="adj" fmla="val 12500"/>
            </a:avLst>
          </a:prstGeom>
          <a:solidFill>
            <a:srgbClr val="ff66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5257800" y="3886200"/>
            <a:ext cx="152388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Virus scanners (Clam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4952880" y="4648320"/>
            <a:ext cx="1676520" cy="58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000000"/>
                </a:solidFill>
                <a:latin typeface="Times New Roman"/>
              </a:rPr>
              <a:t>Spam checkers (Spamassassi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107280" y="2698920"/>
            <a:ext cx="407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13160" y="824040"/>
            <a:ext cx="410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5030640" y="24382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5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2287440" y="1981080"/>
            <a:ext cx="366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Arial"/>
              </a:rPr>
              <a:t>(6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4724280" y="3276720"/>
            <a:ext cx="457200" cy="14475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191120" y="3276720"/>
            <a:ext cx="304560" cy="1904760"/>
          </a:xfrm>
          <a:prstGeom prst="line">
            <a:avLst/>
          </a:prstGeom>
          <a:ln w="28440">
            <a:solidFill>
              <a:srgbClr val="000000"/>
            </a:solidFill>
            <a:prstDash val="lgDashDot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noFill/>
          <a:ln w="2844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>
            <a:off x="4038480" y="2971800"/>
            <a:ext cx="1524240" cy="60948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3809880" y="3200400"/>
            <a:ext cx="1905120" cy="609480"/>
          </a:xfrm>
          <a:prstGeom prst="ellipse">
            <a:avLst/>
          </a:prstGeom>
          <a:solidFill>
            <a:srgbClr val="c0c0c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114800" y="2743200"/>
            <a:ext cx="1143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200" spc="-1" strike="noStrike">
                <a:solidFill>
                  <a:srgbClr val="000000"/>
                </a:solidFill>
                <a:latin typeface="Times New Roman"/>
              </a:rPr>
              <a:t>External proces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V="1">
            <a:off x="4049640" y="3200400"/>
            <a:ext cx="142920" cy="763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5943600" y="1828800"/>
            <a:ext cx="1295280" cy="380880"/>
          </a:xfrm>
          <a:custGeom>
            <a:avLst/>
            <a:gdLst>
              <a:gd name="textAreaLeft" fmla="*/ 230040 w 1295280"/>
              <a:gd name="textAreaRight" fmla="*/ 922680 w 1295280"/>
              <a:gd name="textAreaTop" fmla="*/ 50760 h 380880"/>
              <a:gd name="textAreaBottom" fmla="*/ 330120 h 3808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rot="9900000">
            <a:off x="5866920" y="2437560"/>
            <a:ext cx="1295640" cy="381240"/>
          </a:xfrm>
          <a:custGeom>
            <a:avLst/>
            <a:gdLst>
              <a:gd name="textAreaLeft" fmla="*/ 230040 w 1295640"/>
              <a:gd name="textAreaRight" fmla="*/ 922680 w 129564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671" hR="21600" stAng="10800000" swAng="5400000"/>
                <a:lnTo>
                  <a:pt x="11547" y="0"/>
                </a:lnTo>
                <a:arcTo wR="7671" hR="21600" stAng="-5400000" swAng="1066308"/>
                <a:lnTo>
                  <a:pt x="19069" y="5565"/>
                </a:lnTo>
                <a:lnTo>
                  <a:pt x="17280" y="21600"/>
                </a:lnTo>
                <a:lnTo>
                  <a:pt x="10429" y="5565"/>
                </a:lnTo>
                <a:lnTo>
                  <a:pt x="12811" y="5565"/>
                </a:lnTo>
                <a:arcTo wR="7671" hR="21600" stAng="-4333692" swAng="-748433"/>
                <a:lnTo>
                  <a:pt x="9609" y="701"/>
                </a:lnTo>
                <a:arcTo wR="7671" hR="21600" stAng="-5717874" swAng="-5082126"/>
                <a:close/>
              </a:path>
              <a:path fill="darkenLess" w="21600" h="21600">
                <a:moveTo>
                  <a:pt x="0" y="21600"/>
                </a:moveTo>
                <a:arcTo wR="7671" hR="21600" stAng="10800000" swAng="5400000"/>
                <a:lnTo>
                  <a:pt x="7671" y="0"/>
                </a:lnTo>
                <a:arcTo wR="7671" hR="21600" stAng="-5400000" swAng="317874"/>
                <a:lnTo>
                  <a:pt x="9609" y="701"/>
                </a:lnTo>
                <a:arcTo wR="7671" hR="21600" stAng="-5717874" swAng="-5082126"/>
                <a:close/>
              </a:path>
            </a:pathLst>
          </a:custGeom>
          <a:gradFill rotWithShape="0">
            <a:gsLst>
              <a:gs pos="0">
                <a:srgbClr val="e9e9f8"/>
              </a:gs>
              <a:gs pos="100000">
                <a:srgbClr val="3333cc"/>
              </a:gs>
            </a:gsLst>
            <a:lin ang="108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3733920" y="5257800"/>
            <a:ext cx="1218960" cy="83808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Oth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Program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838080" y="1219320"/>
            <a:ext cx="6477120" cy="3581280"/>
          </a:xfrm>
          <a:prstGeom prst="rect">
            <a:avLst/>
          </a:prstGeom>
          <a:solidFill>
            <a:srgbClr val="cce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1066680" y="56386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Procmail with battery of statistical 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838080" y="5029200"/>
            <a:ext cx="1447920" cy="91440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3429000" y="4952880"/>
            <a:ext cx="3962520" cy="121932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Procmail’s rules cannot reliably identify content,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so external </a:t>
            </a:r>
            <a:r>
              <a:rPr b="0" lang="fi-FI" sz="1400" spc="-1" strike="noStrike">
                <a:solidFill>
                  <a:srgbClr val="3333cc"/>
                </a:solidFill>
                <a:latin typeface="Times New Roman"/>
              </a:rPr>
              <a:t>statistical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Bayesian) programs</a:t>
            </a: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 are call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 chain to determine if message is Unsolicite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Bulk Email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3333cc"/>
                </a:solidFill>
                <a:latin typeface="Times New Roman"/>
              </a:rPr>
              <a:t>(*.rc modules interface to statistical programs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4" name="j0235958" descr=""/>
          <p:cNvPicPr/>
          <p:nvPr/>
        </p:nvPicPr>
        <p:blipFill>
          <a:blip r:embed="rId1"/>
          <a:stretch/>
        </p:blipFill>
        <p:spPr>
          <a:xfrm>
            <a:off x="2057400" y="5410080"/>
            <a:ext cx="1143000" cy="91620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1067040" y="1219320"/>
            <a:ext cx="106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MTA (Exim)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362320" y="1523880"/>
            <a:ext cx="4724280" cy="312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143000" y="1523880"/>
            <a:ext cx="685800" cy="3124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371600"/>
            <a:ext cx="3241800" cy="520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LDA (Procmail) to deliver mail to user </a:t>
            </a:r>
            <a:r>
              <a:rPr b="1" i="1" lang="fi-FI" sz="1400" spc="-1" strike="noStrike">
                <a:solidFill>
                  <a:srgbClr val="3333cc"/>
                </a:solidFill>
                <a:latin typeface="Times New Roman"/>
              </a:rPr>
              <a:t>foo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 rot="14412600">
            <a:off x="868680" y="4845960"/>
            <a:ext cx="1238400" cy="233280"/>
          </a:xfrm>
          <a:custGeom>
            <a:avLst/>
            <a:gdLst>
              <a:gd name="textAreaLeft" fmla="*/ 216720 w 1238400"/>
              <a:gd name="textAreaRight" fmla="*/ 897840 w 1238400"/>
              <a:gd name="textAreaTop" fmla="*/ 30960 h 233280"/>
              <a:gd name="textAreaBottom" fmla="*/ 202320 h 23328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gradFill rotWithShape="0">
            <a:gsLst>
              <a:gs pos="0">
                <a:srgbClr val="3333cc"/>
              </a:gs>
              <a:gs pos="50000">
                <a:srgbClr val="fefefe"/>
              </a:gs>
              <a:gs pos="100000">
                <a:srgbClr val="3333cc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1600200" y="2895480"/>
            <a:ext cx="990720" cy="820800"/>
          </a:xfrm>
          <a:custGeom>
            <a:avLst/>
            <a:gdLst>
              <a:gd name="textAreaLeft" fmla="*/ 154800 w 990720"/>
              <a:gd name="textAreaRight" fmla="*/ 699840 w 990720"/>
              <a:gd name="textAreaTop" fmla="*/ 156240 h 820800"/>
              <a:gd name="textAreaBottom" fmla="*/ 664560 h 82080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590920" y="1752480"/>
            <a:ext cx="2133360" cy="281952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~/.procmail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HELL = /bin/bash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Detect spa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1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INCLUDERC = bayes2.r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3333cc"/>
                </a:solidFill>
                <a:latin typeface="Courier New"/>
              </a:rPr>
              <a:t>#  was message spam?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:0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* ERROR ?? [a-z]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spam.mbox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4876920" y="1752480"/>
            <a:ext cx="1981080" cy="2590920"/>
          </a:xfrm>
          <a:prstGeom prst="ellipse">
            <a:avLst/>
          </a:prstGeom>
          <a:noFill/>
          <a:ln w="25560">
            <a:solidFill>
              <a:srgbClr val="000000"/>
            </a:solidFill>
            <a:prstDash val="lg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4798080" y="1981080"/>
            <a:ext cx="8910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ogofilter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5942520" y="1981080"/>
            <a:ext cx="99756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prob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400800" y="26668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mf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5867280" y="3505320"/>
            <a:ext cx="106704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Spamorac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638680" y="419112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Ifil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4800600" y="3421080"/>
            <a:ext cx="5382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5024520" y="2248200"/>
            <a:ext cx="56880" cy="914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4640" bIns="4464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6327720" y="1901520"/>
            <a:ext cx="69840" cy="8172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34920" bIns="3492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777360" y="2578320"/>
            <a:ext cx="33840" cy="918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 flipH="1">
            <a:off x="6166080" y="4232160"/>
            <a:ext cx="91440" cy="5760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10800" bIns="10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H="1" flipV="1">
            <a:off x="5023800" y="3723840"/>
            <a:ext cx="55440" cy="9288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080" bIns="4608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 flipH="1">
            <a:off x="6792840" y="3391920"/>
            <a:ext cx="22320" cy="10584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778280" y="2629080"/>
            <a:ext cx="304920" cy="799920"/>
          </a:xfrm>
          <a:prstGeom prst="ellipse">
            <a:avLst/>
          </a:prstGeom>
          <a:solidFill>
            <a:srgbClr val="ccec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838080" y="5257800"/>
            <a:ext cx="11498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incom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mail messag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1180080" y="6095880"/>
            <a:ext cx="127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79400" y="762120"/>
            <a:ext cx="12808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800" spc="-1" strike="noStrike">
                <a:solidFill>
                  <a:srgbClr val="000000"/>
                </a:solidFill>
                <a:latin typeface="Comic Sans MS"/>
              </a:rPr>
              <a:t>Host 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5335920" y="2666880"/>
            <a:ext cx="924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UB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"/>
          <p:cNvSpPr/>
          <p:nvPr/>
        </p:nvSpPr>
        <p:spPr>
          <a:xfrm>
            <a:off x="1981080" y="5867280"/>
            <a:ext cx="2286000" cy="762120"/>
          </a:xfrm>
          <a:prstGeom prst="ellipse">
            <a:avLst/>
          </a:prstGeom>
          <a:gradFill rotWithShape="0">
            <a:gsLst>
              <a:gs pos="0">
                <a:srgbClr val="fefefe"/>
              </a:gs>
              <a:gs pos="50000">
                <a:srgbClr val="ccccff"/>
              </a:gs>
              <a:gs pos="100000">
                <a:srgbClr val="fefefe"/>
              </a:gs>
            </a:gsLst>
            <a:lin ang="5400000"/>
          </a:gradFill>
          <a:ln w="0">
            <a:noFill/>
          </a:ln>
          <a:effectLst>
            <a:outerShdw dist="17819" dir="2700000" blurRad="0" rotWithShape="0">
              <a:srgbClr val="b2b2b2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914040" y="304920"/>
            <a:ext cx="7620120" cy="380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3200" spc="-1" strike="noStrike">
                <a:solidFill>
                  <a:srgbClr val="000000"/>
                </a:solidFill>
                <a:latin typeface="Times New Roman"/>
              </a:rPr>
              <a:t>Too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6172200" y="4876920"/>
            <a:ext cx="2057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http://cr.yp.to/smtp/mail.htm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Times New Roman"/>
              </a:rPr>
              <a:t>See RFC 282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6553080" y="1523880"/>
            <a:ext cx="2210040" cy="368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i-FI" sz="1800" spc="-1" strike="noStrike">
                <a:solidFill>
                  <a:srgbClr val="808080"/>
                </a:solidFill>
                <a:latin typeface="Times New Roman"/>
              </a:rPr>
              <a:t>SMTP    connectio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 rot="14076600">
            <a:off x="6972120" y="4457160"/>
            <a:ext cx="1447560" cy="1371600"/>
          </a:xfrm>
          <a:custGeom>
            <a:avLst/>
            <a:gdLst>
              <a:gd name="textAreaLeft" fmla="*/ 226080 w 1447560"/>
              <a:gd name="textAreaRight" fmla="*/ 1266840 w 1447560"/>
              <a:gd name="textAreaTop" fmla="*/ 342720 h 1371600"/>
              <a:gd name="textAreaBottom" fmla="*/ 1028880 h 137160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6705720" y="533520"/>
            <a:ext cx="1981080" cy="990360"/>
          </a:xfrm>
          <a:prstGeom prst="rect">
            <a:avLst/>
          </a:prstGeom>
          <a:gradFill rotWithShape="0">
            <a:gsLst>
              <a:gs pos="0">
                <a:srgbClr val="fefefe"/>
              </a:gs>
              <a:gs pos="100000">
                <a:srgbClr val="ccffcc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 flipV="1">
            <a:off x="3886200" y="5181480"/>
            <a:ext cx="2666880" cy="914400"/>
          </a:xfrm>
          <a:prstGeom prst="wedgeEllipseCallout">
            <a:avLst>
              <a:gd name="adj1" fmla="val -68990"/>
              <a:gd name="adj2" fmla="val -85939"/>
            </a:avLst>
          </a:prstGeom>
          <a:noFill/>
          <a:ln w="9360">
            <a:solidFill>
              <a:srgbClr val="000000"/>
            </a:solidFill>
            <a:prstDash val="lgDashDot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400" spc="-1" strike="noStrike">
                <a:solidFill>
                  <a:srgbClr val="000000"/>
                </a:solidFill>
                <a:latin typeface="Times New Roman"/>
              </a:rPr>
              <a:t>A ”robot” program making a collection of email addresses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6019920" y="4419720"/>
            <a:ext cx="1143000" cy="380880"/>
          </a:xfrm>
          <a:prstGeom prst="rect">
            <a:avLst/>
          </a:prstGeom>
          <a:solidFill>
            <a:srgbClr val="00cc9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TO.COM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6172200" y="5791320"/>
            <a:ext cx="2666880" cy="761760"/>
          </a:xfrm>
          <a:prstGeom prst="rect">
            <a:avLst/>
          </a:prstGeom>
          <a:gradFill rotWithShape="0">
            <a:gsLst>
              <a:gs pos="0">
                <a:srgbClr val="b8f0e2"/>
              </a:gs>
              <a:gs pos="100000">
                <a:srgbClr val="00cc99"/>
              </a:gs>
            </a:gsLst>
            <a:lin ang="108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600" spc="-1" strike="noStrike">
                <a:solidFill>
                  <a:srgbClr val="000000"/>
                </a:solidFill>
                <a:latin typeface="Times New Roman"/>
              </a:rPr>
              <a:t>Spammer injects messages: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600" spc="-1" strike="noStrike">
                <a:solidFill>
                  <a:srgbClr val="3333cc"/>
                </a:solidFill>
                <a:latin typeface="Times New Roman"/>
              </a:rPr>
              <a:t>All use forged addr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7162920" y="2666880"/>
            <a:ext cx="1981080" cy="2514600"/>
          </a:xfrm>
          <a:prstGeom prst="foldedCorner">
            <a:avLst>
              <a:gd name="adj" fmla="val 12500"/>
            </a:avLst>
          </a:prstGeom>
          <a:solidFill>
            <a:srgbClr val="ccffcc"/>
          </a:solidFill>
          <a:ln w="9360">
            <a:solidFill>
              <a:srgbClr val="9966ff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20 mailserver.target.net ESMT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MAIL FROM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i="1" lang="fi-FI" sz="1400" spc="-1" strike="noStrike">
                <a:solidFill>
                  <a:srgbClr val="66ccff"/>
                </a:solidFill>
                <a:latin typeface="Times New Roman"/>
              </a:rPr>
              <a:t>&lt;foo@to.com&gt;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RCPT TO:</a:t>
            </a: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 &lt;bar@from.com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250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i-FI" sz="1200" spc="-1" strike="noStrike">
                <a:solidFill>
                  <a:srgbClr val="3333cc"/>
                </a:solidFill>
                <a:latin typeface="Courier New"/>
              </a:rPr>
              <a:t>DA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200" spc="-1" strike="noStrike">
                <a:solidFill>
                  <a:srgbClr val="000000"/>
                </a:solidFill>
                <a:latin typeface="Courier New"/>
              </a:rPr>
              <a:t>354 o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Buy our product, and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i-FI" sz="1400" spc="-1" strike="noStrike">
                <a:solidFill>
                  <a:srgbClr val="000000"/>
                </a:solidFill>
                <a:latin typeface="Times New Roman"/>
              </a:rPr>
              <a:t>visit URL </a:t>
            </a:r>
            <a:r>
              <a:rPr b="1" lang="fi-FI" sz="1400" spc="-1" strike="noStrike">
                <a:solidFill>
                  <a:srgbClr val="000000"/>
                </a:solidFill>
                <a:latin typeface="Times New Roman"/>
              </a:rPr>
              <a:t>. . .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rot="8031000">
            <a:off x="8163720" y="4485240"/>
            <a:ext cx="664920" cy="533520"/>
          </a:xfrm>
          <a:custGeom>
            <a:avLst/>
            <a:gdLst>
              <a:gd name="textAreaLeft" fmla="*/ 103680 w 664920"/>
              <a:gd name="textAreaRight" fmla="*/ 469800 w 664920"/>
              <a:gd name="textAreaTop" fmla="*/ 101520 h 533520"/>
              <a:gd name="textAreaBottom" fmla="*/ 432000 h 533520"/>
            </a:gdLst>
            <a:ahLst/>
            <a:rect l="textAreaLeft" t="textAreaTop" r="textAreaRight" b="textAreaBottom"/>
            <a:pathLst>
              <a:path w="21600" h="21600">
                <a:moveTo>
                  <a:pt x="3375" y="4119"/>
                </a:moveTo>
                <a:lnTo>
                  <a:pt x="11350" y="4119"/>
                </a:lnTo>
                <a:lnTo>
                  <a:pt x="11350" y="0"/>
                </a:lnTo>
                <a:lnTo>
                  <a:pt x="21600" y="10800"/>
                </a:lnTo>
                <a:lnTo>
                  <a:pt x="11350" y="21600"/>
                </a:lnTo>
                <a:lnTo>
                  <a:pt x="11350" y="17481"/>
                </a:lnTo>
                <a:lnTo>
                  <a:pt x="3375" y="17481"/>
                </a:lnTo>
                <a:close/>
              </a:path>
              <a:path w="21600" h="21600">
                <a:moveTo>
                  <a:pt x="0" y="4119"/>
                </a:moveTo>
                <a:lnTo>
                  <a:pt x="675" y="4119"/>
                </a:lnTo>
                <a:lnTo>
                  <a:pt x="675" y="17481"/>
                </a:lnTo>
                <a:lnTo>
                  <a:pt x="0" y="17481"/>
                </a:lnTo>
                <a:close/>
              </a:path>
              <a:path w="21600" h="21600">
                <a:moveTo>
                  <a:pt x="1350" y="4119"/>
                </a:moveTo>
                <a:lnTo>
                  <a:pt x="2700" y="4119"/>
                </a:lnTo>
                <a:lnTo>
                  <a:pt x="2700" y="17481"/>
                </a:lnTo>
                <a:lnTo>
                  <a:pt x="1350" y="17481"/>
                </a:lnTo>
                <a:close/>
              </a:path>
            </a:pathLst>
          </a:custGeom>
          <a:gradFill rotWithShape="0">
            <a:gsLst>
              <a:gs pos="0">
                <a:srgbClr val="ccffcc"/>
              </a:gs>
              <a:gs pos="100000">
                <a:srgbClr val="5c735c"/>
              </a:gs>
            </a:gsLst>
            <a:lin ang="13500000"/>
          </a:gradFill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41" name="j0235958" descr=""/>
          <p:cNvPicPr/>
          <p:nvPr/>
        </p:nvPicPr>
        <p:blipFill>
          <a:blip r:embed="rId1"/>
          <a:stretch/>
        </p:blipFill>
        <p:spPr>
          <a:xfrm>
            <a:off x="2819520" y="5257800"/>
            <a:ext cx="1143000" cy="915840"/>
          </a:xfrm>
          <a:prstGeom prst="rect">
            <a:avLst/>
          </a:prstGeom>
          <a:ln w="0">
            <a:noFill/>
          </a:ln>
        </p:spPr>
      </p:pic>
      <p:sp>
        <p:nvSpPr>
          <p:cNvPr id="242" name=""/>
          <p:cNvSpPr/>
          <p:nvPr/>
        </p:nvSpPr>
        <p:spPr>
          <a:xfrm>
            <a:off x="3048120" y="2895480"/>
            <a:ext cx="1752480" cy="990720"/>
          </a:xfrm>
          <a:prstGeom prst="flowChartMultidocument">
            <a:avLst/>
          </a:prstGeom>
          <a:solidFill>
            <a:srgbClr val="ccff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2400" spc="-1" strike="noStrike">
                <a:solidFill>
                  <a:srgbClr val="000000"/>
                </a:solidFill>
                <a:latin typeface="Times New Roman"/>
              </a:rPr>
              <a:t>RF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7543800" y="1981080"/>
            <a:ext cx="838080" cy="381240"/>
          </a:xfrm>
          <a:custGeom>
            <a:avLst/>
            <a:gdLst>
              <a:gd name="textAreaLeft" fmla="*/ 146520 w 838080"/>
              <a:gd name="textAreaRight" fmla="*/ 607680 w 838080"/>
              <a:gd name="textAreaTop" fmla="*/ 51120 h 381240"/>
              <a:gd name="textAreaBottom" fmla="*/ 330120 h 38124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5638680" y="2895480"/>
            <a:ext cx="1219320" cy="76212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i-FI" sz="1800" spc="-1" strike="noStrike">
                <a:solidFill>
                  <a:srgbClr val="000000"/>
                </a:solidFill>
                <a:latin typeface="Times New Roman"/>
              </a:rPr>
              <a:t>Librar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8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29T21:22:25Z</dcterms:created>
  <dc:creator>none</dc:creator>
  <dc:description/>
  <dc:language>en-US</dc:language>
  <cp:lastModifiedBy>none</cp:lastModifiedBy>
  <dcterms:modified xsi:type="dcterms:W3CDTF">2007-09-12T11:30:54Z</dcterms:modified>
  <cp:revision>47</cp:revision>
  <dc:subject/>
  <dc:title>PowerPoint Presentation</dc:title>
</cp:coreProperties>
</file>