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33893"/>
        <c:axId val="79219052"/>
      </c:barChart>
      <c:catAx>
        <c:axId val="82233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9052"/>
        <c:crosses val="autoZero"/>
        <c:auto val="1"/>
        <c:lblAlgn val="ctr"/>
        <c:lblOffset val="100"/>
        <c:noMultiLvlLbl val="0"/>
      </c:catAx>
      <c:valAx>
        <c:axId val="79219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33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E76-8A7E-479B-9350-6F8C4494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701-5F10-4198-AB53-E66F790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AC-59E9-4FB7-9395-4A5B4E28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DF7-B1FF-4258-BEAE-6991C724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1F5-C77F-44B2-B9E0-04D6A492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C28-4CBD-49A1-8FEE-08F9A15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223-8C9B-4A9A-888A-A1AC39CF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1EC-F2C2-4AE7-86BB-FEA0EF2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42C-0010-45AD-A7E2-4383371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819-3B7A-4624-889D-EB8548E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5D5-5D00-41DC-89EF-382A5A6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12D-6B33-40CA-9F81-0162705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02806-FE3B-4207-B57C-64C2F6B490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