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87554"/>
        <c:axId val="97167026"/>
      </c:barChart>
      <c:catAx>
        <c:axId val="81787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7026"/>
        <c:crosses val="autoZero"/>
        <c:auto val="1"/>
        <c:lblAlgn val="ctr"/>
        <c:lblOffset val="100"/>
        <c:noMultiLvlLbl val="0"/>
      </c:catAx>
      <c:valAx>
        <c:axId val="97167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87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3E7-C0CD-4BFF-B982-AF75A2AA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C01-DC61-47C2-B8B3-41CF2C5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99C-FB6D-44D7-A545-933D2B1A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ABA-33D0-46AA-ADC3-C40FEEF4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233-7E2C-4222-A1D8-8408C02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ED1-B55F-431D-9A13-62FDA12C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EEF-9F31-45C2-AF61-58635FF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D97-A045-4D01-862B-B414131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42F-6E2D-404F-8623-E3464728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034-8BC0-46D6-8985-DD84932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F63-95BC-4169-8C1E-10EADCFC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DD9-E8A6-4A7A-B5F0-2330937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3829-AE07-4DD5-BB32-B1421652B7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