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42073"/>
        <c:axId val="92083835"/>
      </c:barChart>
      <c:catAx>
        <c:axId val="87742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83835"/>
        <c:crosses val="autoZero"/>
        <c:auto val="1"/>
        <c:lblAlgn val="ctr"/>
        <c:lblOffset val="100"/>
        <c:noMultiLvlLbl val="0"/>
      </c:catAx>
      <c:valAx>
        <c:axId val="92083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42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367-7330-41BA-9F2D-00D348B6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E7E-0531-435D-B50F-0268228E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32D-BFC9-42D0-9D80-26ADA382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55F-8B15-47E2-B055-A372B026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F69-3481-4ED0-9E16-451F797F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CC2-ECD1-44D6-BCC0-1DA8C9B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49D-6E67-4EFE-AE6D-AB9D8AAE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D70-76DA-40A7-8638-F90BE14B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5DC-22DD-49F7-AE82-54D18FA3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A79-9C48-4F8A-B73C-B6147107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C48-08F3-4E7E-8B91-3BF485AC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E4E-EB7C-426C-899B-60EE9825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CBF91-0ED9-4793-A0C2-EDFA887963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