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44056"/>
        <c:axId val="31783226"/>
      </c:barChart>
      <c:catAx>
        <c:axId val="92440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83226"/>
        <c:crosses val="autoZero"/>
        <c:auto val="1"/>
        <c:lblAlgn val="ctr"/>
        <c:lblOffset val="100"/>
        <c:noMultiLvlLbl val="0"/>
      </c:catAx>
      <c:valAx>
        <c:axId val="317832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440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B7F7-FB94-40A2-B52A-237B688EE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858E-F9D9-4B27-8B88-627B88FA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4E09-CC2A-4410-BB42-4B788E19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A22B-0ECE-4AEC-A22A-AF416927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69D-EC2C-47CC-9F49-E34A6315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40AE-A018-4492-9C59-A1CC4B64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0A9-997D-4D5C-974F-027B5EAB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9F4A-062F-49B4-9529-5F9BA5FF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C75-161F-49FC-AF4E-E66EE2710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84EF-A8AF-454B-BDD4-AD2B23E0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2FAD-8D14-431A-A886-756589A8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6744-49AB-4D81-8057-9B4D65E7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1D300-3119-4917-AD2E-0959A28F3E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