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135360"/>
        <c:axId val="48263827"/>
      </c:barChart>
      <c:catAx>
        <c:axId val="211353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63827"/>
        <c:crosses val="autoZero"/>
        <c:auto val="1"/>
        <c:lblAlgn val="ctr"/>
        <c:lblOffset val="100"/>
        <c:noMultiLvlLbl val="0"/>
      </c:catAx>
      <c:valAx>
        <c:axId val="482638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353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4024-BD6B-42E2-BC88-DA42BFEF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6529-D10C-4372-A7DE-EACC159E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8135-675C-4895-A9D9-858AA96E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A1F0-1B33-4F3B-A4DE-94880AB8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029B-E073-475E-AC07-7D171424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5EB4-4B65-41BC-9E81-E00EF439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120F-A02C-4992-BB38-6B00830D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A365-D96C-4977-A01E-C062FAB9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03E5-121F-45C4-B0EF-AC2B53B0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2ACB-E246-407A-8E1E-972862FC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B64C-EB90-4207-8F06-A2F9EA80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F5CB-EA96-42FF-9439-925610BF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9065F-35F2-42B2-B5F1-91F1708400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