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21408"/>
        <c:axId val="20481374"/>
      </c:barChart>
      <c:catAx>
        <c:axId val="71021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81374"/>
        <c:crosses val="autoZero"/>
        <c:auto val="1"/>
        <c:lblAlgn val="ctr"/>
        <c:lblOffset val="100"/>
        <c:noMultiLvlLbl val="0"/>
      </c:catAx>
      <c:valAx>
        <c:axId val="20481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21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D3D-9CB0-4DD2-B2A5-A8B8BEC7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B8F-9A20-4759-8CFF-59AF4B91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DAD-8554-4F38-97C7-4AF2C904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F21-7111-4CD8-9B03-968F9661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537-D29A-4545-B3C4-7E306AC8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832-41ED-499C-A607-E61E64D4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F7C-BCDD-417C-8C07-CD1EA94B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ABBE-BB0D-44EB-A8AB-C20F0F6C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86B-B11C-4253-8A3B-EC067BD6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061-56EB-45EC-AED0-DABFD891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2CF-E5AD-45D5-BD82-D9778A3E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1E4-2103-4839-89B5-3DD2365C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0476B-702B-402F-8FA2-E6EA182628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