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05639"/>
        <c:axId val="63643873"/>
      </c:barChart>
      <c:catAx>
        <c:axId val="89205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3873"/>
        <c:crosses val="autoZero"/>
        <c:auto val="1"/>
        <c:lblAlgn val="ctr"/>
        <c:lblOffset val="100"/>
        <c:noMultiLvlLbl val="0"/>
      </c:catAx>
      <c:valAx>
        <c:axId val="6364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5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D61-1AEA-43E0-9847-1A78391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FD7-67FC-438E-96E2-3A6DFD6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00E-BE9F-4290-B6E3-5C2886C7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55C-FB4A-4746-89DB-87647D7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6D5-5CCC-42F6-91BA-A1CF064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A2C-9EE2-49CB-B459-C748A00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861-C45E-4370-BF79-955C69E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00B-350E-47AB-9C41-93E7109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392-684B-44D5-903A-773788EB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BA6-E5CF-4B1B-9A28-36699A3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D9D-2EDA-4183-922A-E2CF8F9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B90-3920-4894-B33D-F57F19C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6EC8B-A17B-41CF-96C3-192C8CDC9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