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A05F6-6986-4354-B80C-F8BB3CB50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38317-B21B-4752-973D-63F88AA8F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F1010-A8A9-4399-92AC-60425A092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4D9C7-A040-4AB8-818F-4CF4429CD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26FC2-8501-4F86-9A9C-0EE77AA89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D8E61-35DB-4803-9292-0D93E85CC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A07CB-F044-447A-8F35-D2EE5377D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B69CE-D54B-482A-B0C2-E76C09F24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812B1-DAD1-4878-9C35-68A5D4B19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07174-DB91-41D6-AE80-20FFAA83A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BBAF8-02FF-475D-ACAC-A654CC537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AAF25-4096-4C41-8BDC-03E6F2507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082F1-99E8-4B8A-80F0-077FC5016D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Symbol"/>
                <a:ea typeface="Symbol"/>
              </a:rPr>
              <a:t>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Symbol, Club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  <a:ea typeface="Arial"/>
              </a:rPr>
              <a:t>►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‘Normal’, Play arrow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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MT Sorts, 5 point sta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Wingdings, Smiley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8T10:46:03Z</dcterms:created>
  <dc:creator>Michael</dc:creator>
  <dc:description/>
  <dc:language>en-US</dc:language>
  <cp:lastModifiedBy>Michael</cp:lastModifiedBy>
  <dcterms:modified xsi:type="dcterms:W3CDTF">2004-08-18T10:49:19Z</dcterms:modified>
  <cp:revision>2</cp:revision>
  <dc:subject/>
  <dc:title>Slide 1</dc:title>
</cp:coreProperties>
</file>