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771079"/>
        <c:axId val="95899478"/>
      </c:barChart>
      <c:catAx>
        <c:axId val="497710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899478"/>
        <c:crosses val="autoZero"/>
        <c:auto val="1"/>
        <c:lblAlgn val="ctr"/>
        <c:lblOffset val="100"/>
        <c:noMultiLvlLbl val="0"/>
      </c:catAx>
      <c:valAx>
        <c:axId val="958994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7710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D131-D70B-4D2A-B457-E26281CEA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2F7A-FDBC-471F-B57E-5634B7D57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EA15-3C24-47AF-A6FA-C78142CDC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42D3-8204-4409-964D-85DD9E48B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E76B-C0E2-42CA-8E5A-FCF75AD02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7259-E73A-4D1F-B527-C28C2725D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9509-2088-42A1-A329-81DE506F0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B044-4766-4D36-8AB9-0958C88CC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8BC3-F9B3-4423-8502-1CB0CE6A7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58C9-7E9B-493B-BD5F-D05D2043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5D93-9115-423C-9235-B6371D02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D9F0-D8D1-40D2-A1EB-4620267E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2BD9F6-3394-4C53-8E42-B8D398313B4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