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538658"/>
        <c:axId val="44681630"/>
      </c:barChart>
      <c:catAx>
        <c:axId val="535386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81630"/>
        <c:crosses val="autoZero"/>
        <c:auto val="1"/>
        <c:lblAlgn val="ctr"/>
        <c:lblOffset val="100"/>
        <c:noMultiLvlLbl val="0"/>
      </c:catAx>
      <c:valAx>
        <c:axId val="446816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386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778E-877F-441A-9B6B-E534C4B1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B70C-6A92-4AE3-B426-122D0F07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62DB-EF0F-4034-9B0A-650F45C7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CDA1-05E7-4D24-82C8-AAEC4E8C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9BF4-4630-4A2A-9158-C9A51150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03B0-2B6C-442D-A5EF-7E9FA0F7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A6D6-C6FC-4F03-82E4-1A4B38C3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BE89-2DCB-4C72-978E-A722D0C7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1EA1-7C39-438F-93DB-44B0DF5A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D2B3-A1FD-473D-8E86-FE01ABF3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3587-E95B-4E79-884B-71258643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6064-BFC8-4CC8-AF32-CF611B68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4F361-161F-44E0-98E6-C80D6B82EE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