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15784"/>
        <c:axId val="47225906"/>
      </c:barChart>
      <c:catAx>
        <c:axId val="30315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25906"/>
        <c:crosses val="autoZero"/>
        <c:auto val="1"/>
        <c:lblAlgn val="ctr"/>
        <c:lblOffset val="100"/>
        <c:noMultiLvlLbl val="0"/>
      </c:catAx>
      <c:valAx>
        <c:axId val="47225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15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98E-B2DD-4DAE-A9AC-3F406262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56D-1DF1-491F-AC90-762F11BA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BD5-EF4C-4D28-8E58-3D752DD3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F6E-977E-470D-9CCC-89E47DA9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DE5-36C8-43ED-BC55-04C0985B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A8D-06AD-41E4-B4C0-0BE4256A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8E9-FA0E-4D01-965D-AC049126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64A-BA88-43E2-993F-3A5C3D57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857-DFD0-46E5-B0ED-79E5247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246-7958-473A-98AC-B6C609A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B97-91D5-490A-8F4F-CABB1CFE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B67-5479-4DE3-AEED-47D83E57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9A65D-6B33-44CC-AA52-CABC7A6F9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