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66491"/>
        <c:axId val="30661590"/>
      </c:barChart>
      <c:catAx>
        <c:axId val="21866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61590"/>
        <c:crosses val="autoZero"/>
        <c:auto val="1"/>
        <c:lblAlgn val="ctr"/>
        <c:lblOffset val="100"/>
        <c:noMultiLvlLbl val="0"/>
      </c:catAx>
      <c:valAx>
        <c:axId val="30661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66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6B2-8CD1-459C-BDF9-27577D6D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682-5747-46C5-9265-2C87836B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88F-7D04-461B-B0FA-DD8A7505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E32-16D7-4280-8074-EDFBD96F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91A-CB6A-4BB8-9B55-BBCE3A34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4F8-E25F-4361-B596-953D0F1E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F2F-DD9D-49AE-BCDC-33A5A531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E6B-F27B-48BE-AE7E-8F53F77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E61-1174-45AD-A973-DBD5D78C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EF0-6F69-47E2-99A3-57970AC1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C5D-0375-4D5C-8025-87C8F4F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864-70FB-457A-AD2C-C78BAB3B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9B7CD-7CFE-447D-B4CC-8C7EE85461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