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5E27D-66CB-46A4-8D34-07FFA6DEC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97F63-75A9-4169-AC14-564210E38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67490-FF53-4908-87F4-7B0A21017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22E5E-2BFE-4A84-85A9-AC870938A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5CC05-C0BF-412A-91A9-8199A4EB0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1658E-9F4D-41C6-A1A0-F70AD269D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A359B-581B-423E-AB62-37E443ECC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D5F4B-E055-45B9-92B3-0374A65C3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2E80E-CC70-4920-BE29-F4F0A4090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FF8CA-56A3-4FBD-B22D-C595BA518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08ADD-7F23-48CE-ADC8-C4000091A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CAFB7-5FC3-4DCF-8455-52DB60513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83255-10CE-4A76-86D7-0F93B85E00A4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hexagon">
            <a:avLst>
              <a:gd name="adj" fmla="val 50003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x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plus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r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pentag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gular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Folded Cor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miley 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donut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n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noSmoking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“No“ Symb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parallelogram">
            <a:avLst>
              <a:gd name="adj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arallel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lock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91640 w 7197480"/>
              <a:gd name="textAreaRight" fmla="*/ 5501160 w 7197480"/>
              <a:gd name="textAreaTop" fmla="*/ 423000 h 3598560"/>
              <a:gd name="textAreaBottom" fmla="*/ 2257200 h 35985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ightningBol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ightning Bo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M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-6838200" y="358920"/>
            <a:ext cx="14394240" cy="719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24080 w 7197480"/>
              <a:gd name="textAreaRight" fmla="*/ 6773400 w 7197480"/>
              <a:gd name="textAreaTop" fmla="*/ 424080 h 3598560"/>
              <a:gd name="textAreaBottom" fmla="*/ 3174480 h 3598560"/>
            </a:gdLst>
            <a:ahLst/>
            <a:rect l="textAreaLeft" t="textAreaTop" r="textAreaRight" b="textAreaBottom"/>
            <a:pathLst>
              <a:path w="432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9600" y="21600"/>
                </a:lnTo>
                <a:arcTo wR="3600" hR="3600" stAng="10800000" swAng="5400000"/>
                <a:lnTo>
                  <a:pt x="43200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la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115720 w 7197480"/>
              <a:gd name="textAreaRight" fmla="*/ 719784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582560 w 7197480"/>
              <a:gd name="textAreaRight" fmla="*/ 5614920 w 7197480"/>
              <a:gd name="textAreaTop" fmla="*/ 791280 h 3598560"/>
              <a:gd name="textAreaBottom" fmla="*/ 280728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Trapez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504828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598280 w 7197480"/>
              <a:gd name="textAreaRight" fmla="*/ 719784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259920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iam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ounded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Isosceles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22:04Z</dcterms:created>
  <dc:creator>tb121644</dc:creator>
  <dc:description/>
  <dc:language>en-US</dc:language>
  <cp:lastModifiedBy>tb121644</cp:lastModifiedBy>
  <dcterms:modified xsi:type="dcterms:W3CDTF">2005-05-25T09:56:44Z</dcterms:modified>
  <cp:revision>2</cp:revision>
  <dc:subject/>
  <dc:title>Slide 1</dc:title>
</cp:coreProperties>
</file>