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57065"/>
        <c:axId val="23876931"/>
      </c:barChart>
      <c:catAx>
        <c:axId val="36057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76931"/>
        <c:crosses val="autoZero"/>
        <c:auto val="1"/>
        <c:lblAlgn val="ctr"/>
        <c:lblOffset val="100"/>
        <c:noMultiLvlLbl val="0"/>
      </c:catAx>
      <c:valAx>
        <c:axId val="23876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7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E64-1E72-4ACF-9B5B-D136026E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C6F-A76B-4A46-900F-203A2B89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303-D0B0-4337-BAE3-6F6F4DD2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083-23E9-4D3E-9154-5BC9A4FF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A9A-3AC5-4905-93E0-F20135CF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6CA-6270-4E5E-8B0D-B870EA6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358-EB70-47BC-BC5C-78DE7D7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BAC-FDFA-43F3-99F2-F688864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ECE-6E10-4A49-AC79-9FC8D99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19E-5D9C-4D22-A29E-65925F6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9DE-2541-4AFF-961B-CF1FBD3F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F2C-2EE8-4565-AFD9-BDA02E3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0FD0-68C2-456E-B528-16B034F7D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