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239058"/>
        <c:axId val="72944394"/>
      </c:barChart>
      <c:catAx>
        <c:axId val="842390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944394"/>
        <c:crosses val="autoZero"/>
        <c:auto val="1"/>
        <c:lblAlgn val="ctr"/>
        <c:lblOffset val="100"/>
        <c:noMultiLvlLbl val="0"/>
      </c:catAx>
      <c:valAx>
        <c:axId val="729443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2390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7C3D-4099-48BC-A18F-6DC6C85CB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DEF4-95D5-4A73-A370-52B0FF867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9C51-633B-468B-9AB8-13B44EDE7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7503-14A9-41CF-8F06-436F08830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F29A-DA39-4532-9B57-42AFEB3EE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104E-DC03-48AC-8999-E9EB50F07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798B-6E65-4C82-B886-28C6779A8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E21D-D27B-43BB-87EA-151FF719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52D4-4126-448D-A349-04406152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1DCE-EA33-4B71-8A50-253C8DB8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2E90-D6BE-4D2F-A3CE-83EA0C08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7DF5-FD63-4D0A-ADCF-AC34EE80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D77B07-FFB1-4630-B9F2-5A2F186E335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