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727121"/>
        <c:axId val="20104056"/>
      </c:barChart>
      <c:catAx>
        <c:axId val="177271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04056"/>
        <c:crosses val="autoZero"/>
        <c:auto val="1"/>
        <c:lblAlgn val="ctr"/>
        <c:lblOffset val="100"/>
        <c:noMultiLvlLbl val="0"/>
      </c:catAx>
      <c:valAx>
        <c:axId val="201040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271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67A-4F19-4C90-88AD-6E1C632F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8D3D-A87E-4580-AE59-5AB5E213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D656-E56F-446D-9ABC-C57C4DFB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BEE0-A610-4868-B6E8-5728ED2D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90B2-2029-4E72-82A8-77A1E3DC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CF80-B89D-4099-BF14-E098A75C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CC5A-7FA1-4D0D-A164-3E6E6A2D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88E6-85FF-4AC9-B5E3-14AB71D8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2EC3-626A-4DB8-A903-C842EDCD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C4C5-3DAA-4606-B591-DA8780D7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D8B8-78BD-47DB-9884-1635A1CF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78F0-AA27-45F7-942C-36EFBFF1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27B47-D2A2-4666-B879-A1BF64DA07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