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839109"/>
        <c:axId val="22449663"/>
      </c:barChart>
      <c:catAx>
        <c:axId val="958391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49663"/>
        <c:crosses val="autoZero"/>
        <c:auto val="1"/>
        <c:lblAlgn val="ctr"/>
        <c:lblOffset val="100"/>
        <c:noMultiLvlLbl val="0"/>
      </c:catAx>
      <c:valAx>
        <c:axId val="224496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8391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51FE-06E5-4795-8AFA-FA992439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0330-C8AB-434A-9A71-26B728A9E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C92-6041-483A-BBE7-D2F8F1A9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08CA-5EEC-4F52-9563-68CB4A450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3EBB-626B-4282-83ED-39E65A4F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ED4A-5DF2-4A4B-AA04-F292B71FC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26E-72FE-4523-9516-D01B1E3C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EDC9-D90A-4198-8062-A0990317D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FF72-9499-417B-B30D-DF5B57A2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3D8-300D-44B1-9B9C-AEBD1083E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B1D0-EAA6-4ECC-985D-BA98C3AC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49C-91C0-4485-89F8-6B5D2A598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E60C7-BE3E-4BA1-A160-AF3E09FC18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