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87008"/>
        <c:axId val="74379189"/>
      </c:barChart>
      <c:catAx>
        <c:axId val="88487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79189"/>
        <c:crosses val="autoZero"/>
        <c:auto val="1"/>
        <c:lblAlgn val="ctr"/>
        <c:lblOffset val="100"/>
        <c:noMultiLvlLbl val="0"/>
      </c:catAx>
      <c:valAx>
        <c:axId val="74379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87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953-4743-4B2E-AAAB-502ED3D0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3B1-019A-4BEF-8153-1EDC4337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1B2-4DD1-4E7E-AEA3-B9DA7D8B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D3E-0345-4C0E-83C0-3D08EC41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EC0-15E2-45D2-8717-4B90D1C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035-718A-45C4-AD41-5FB9BC2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48D-2CCF-474C-B4DF-91C467AC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8AF-02B1-4F6D-B690-CE3A0DD2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F6D-81CC-46C5-AD2C-82CAA2B1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891-98BD-4A42-B7E7-73E6EEB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B25-8B0E-4040-8503-FF870DB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BDB-78A6-48FB-A2E5-89B08BD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2CB80-1E77-4C5E-AEBC-85E2F712FB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